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1C5C-5F99-4112-B312-F3AF36FD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3AE8-3E58-4FBE-A744-2353293C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118EB-13B3-43DD-8252-4594231F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42227-56FD-4688-9516-28E5B1E3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B489D-BF45-4981-8EC1-FA34D2DA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641E1-D337-4C71-8BD2-328E4BED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8285B-2799-476F-8476-8F954BE2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F2F09-9465-430A-9E3E-1656C049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59551-73C3-412F-B7D8-D610528F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A3F31-8767-49DC-AF26-BE249364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4869B-2760-44EA-9CBA-1CD94BB7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E2E2-7A0F-4F7C-9229-1520237C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E252-EC1B-4D2C-9045-3FA8DDA7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5D9C-AC5C-4E6F-B00B-372CCB0A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1B93-6F7D-4FCA-9274-9B823232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CBC5-E425-45B9-802A-7E5CEC9F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706D-1B35-4B5F-AB08-D11F93A3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E68E-353D-40EA-8D05-3E8F4488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014F-128A-4D3D-962F-D057D3A0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408A-7D1B-49E7-9919-C346D567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2723-32DA-49BA-A436-A08D0476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A7C7-E001-4F05-8916-008D68C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D773-A706-48F7-8029-754C5AF2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9530-3454-4410-BFFB-8399547F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69B8-ADBF-45CD-B14E-F071FF7D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06E0-281B-41BC-B8A0-3CEB0A32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37434-CE72-4281-B202-8D8FB681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6B221-75EF-46B8-BA58-952A19AC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CC83B-C3A7-4D6A-8A7C-9E759C8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0E674-4A30-4555-97E1-41D3F906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2199A-C0B2-4A6C-994D-2F769ADC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0A94-9461-4EE1-B730-F65EBD53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50F70-4F4D-4B81-B2D1-1B2278AA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BF2B1-D9A9-4C7E-B349-8A737446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1EEE7-22A3-4265-A8DF-132AF714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81762-FE4F-4531-B968-922B94B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2B1B2-C0AB-4436-AFC0-150872B0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55EB1-E483-4430-A120-35669FF2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19E9B-1914-49C6-9F97-8CB1D9DD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3774-8F90-4793-B045-AFDF7E66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BC97-3D90-4414-9A9F-CF843D4D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4CA0-34B2-4C4B-9F9D-80A0A673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6297-0778-4774-8EC3-2412DA72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84DA-5FF1-4A9C-AE3D-94ADE52A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ABE5D-32B6-4BEF-8B67-3D5D63F9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4A49-10D6-4D9A-A3DB-54028F26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122D-C70A-4A7F-9B0B-435554E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93B3-AD85-450F-A62B-37C02FF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F5A00-FE40-4B8E-9C0D-6F9BF1D7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B8AA-726C-4B36-B8D0-2EFAE686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B9F8-3371-43A9-9C4F-39F6C4E7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1774-3613-4E2A-B9D8-6DD72612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B9F7A-264B-4881-9F96-7E60E06D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EA11-98AC-4FE7-9A09-13AE987A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2C0D7-7999-4576-878E-1BC26B85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33A8B-BB4C-4DA9-BD5F-2CE917BF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61452-8908-49D0-9180-E8F2A610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0408D-E3F9-4D1E-9F2D-5B154639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AA6F-2D83-4CC9-A679-C587458C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4AA32-7272-4102-9602-513B9C7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F9903-6982-4CAC-B83E-A4B30E07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6322A-EE40-4DD0-BD1E-F05E0AD3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67A3A-1FB5-4F15-BCC4-F5011DD5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54F4-2E83-4DE4-966E-9E2BA510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23F9-E40D-47FE-A8B2-3BAC0567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17057-591C-4BC2-8265-6A9AAE69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9FC96-AAC7-4A7C-B4E2-CEE70A24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FB458-DCD6-4DC5-ADA1-09B8C9AD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1A308-1B4D-4AAB-98EA-8F80E483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0D4B9-6EA9-44A5-AA3D-1D3DD998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70A43-A23D-4515-AB9C-7BED5197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756A8-C615-42A7-8B32-550A5B7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6A2EA-38A8-4C67-81BF-E6335E97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E1839-F4FD-4D0B-A960-EEBD1BB6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F9E4-0BDD-4CBA-BCB1-DBB11DDA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9697-B925-44AD-8D57-0613A1E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5ECE4-DDD5-4289-B666-45535808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55A31-C220-407A-A5CE-D873E8AA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E2CF6-85A2-4134-BDEC-0D2D1440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4EF37-E11B-42C5-8BA9-460B55B5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4F36F-CC49-48DC-8B3D-140785C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3EE9A-A0EE-4385-BFC7-3DB416FA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3942-D0D5-4811-9EC2-ED32A8A5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C859-1A55-4A7F-8420-B0749FCA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8DBE-AC25-475C-9B82-0F4803CA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E7621-9529-4571-A22F-6DE2880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E0DA-048B-4FD9-BAF6-35A5B729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73348-6AC7-41D4-A49D-AA3B937C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CE6D-A21B-4DFD-B32A-07C7F64E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C4A8-A453-4423-B444-107AB3FB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F1CCA-773E-4193-9552-2A278807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15FF9-0C71-47A6-9116-DCCD7CEB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11BD-4040-4E53-B7C2-5DAA9A11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D5145-6125-40A9-AD40-57FFB067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44293-770E-4D36-AA10-A5B44B94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65337-3A60-4C7A-8427-8CB2EF4F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0F18-94BC-49DC-9C0D-A1BE9571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289B-42B1-4907-A74D-29145DD3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D71F7-BBC2-4655-8717-4CF7418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FB0BA-10A8-4637-A460-4953FF10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495FC-6859-4BB4-88CB-A18A927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7C051-B88D-41D9-989B-6C151645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FE159-6976-497C-A1C8-097DAC7E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C33A4-E640-4B99-A4F4-B73554FD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3EF2B-20D6-4B65-A8E4-B700F02C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75980-2378-4CCA-B3E0-64CDBB1A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A0F22-000F-4159-B1BC-AE7B2843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B57B2-5A14-4A28-B654-0C26DB96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E456-2EC5-4048-B8D5-0D8CE3C070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0F0D-2B00-45FE-A2E1-E629E35F86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F49C-5FE4-42C2-A8D0-99E6F65DE6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0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5350-24DA-43F9-9F66-0C7959CE89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EEFD-4929-47B2-843C-F16D8BE169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5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6CC0-3098-4B6E-B65E-D4AF732342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ED8-DBA2-4C87-BD47-E779FD49E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BEE9-1BD3-403F-924E-8E0F4FAA8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5021-6678-4CF4-B329-E2CF6A717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362320" y="304920"/>
            <a:ext cx="4743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dnie"/>
              </a:rPr>
              <a:t>Parallel Family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dnie"/>
              <a:ea typeface="Sydni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dnie"/>
              </a:rPr>
              <a:t>and the Odd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dnie"/>
              <a:ea typeface="Sydni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334200" y="6286680"/>
            <a:ext cx="280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Garamond Premr Pro Smbd"/>
              </a:rPr>
              <a:t>Brittani Guer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Garamond Premr Pro Smbd"/>
              <a:ea typeface="Garamond Premr Pro Smbd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5619600"/>
            <a:ext cx="220968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Minion Pro"/>
              </a:rPr>
              <a:t>Period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Minion Pro"/>
              <a:ea typeface="Minion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Minion Pro"/>
              </a:rPr>
              <a:t>Mrs. Hop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Minion Pro"/>
              <a:ea typeface="Minion Pro"/>
            </a:endParaRPr>
          </a:p>
        </p:txBody>
      </p:sp>
      <p:pic>
        <p:nvPicPr>
          <p:cNvPr id="463" name="" descr="rectangle"/>
          <p:cNvPicPr/>
          <p:nvPr/>
        </p:nvPicPr>
        <p:blipFill>
          <a:blip r:embed="rId1"/>
          <a:srcRect l="0" t="16024" r="4006" b="0"/>
          <a:stretch/>
        </p:blipFill>
        <p:spPr>
          <a:xfrm>
            <a:off x="5105520" y="1676520"/>
            <a:ext cx="1752480" cy="79992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464" name=""/>
          <p:cNvSpPr/>
          <p:nvPr/>
        </p:nvSpPr>
        <p:spPr>
          <a:xfrm>
            <a:off x="4419720" y="5715000"/>
            <a:ext cx="761760" cy="1143000"/>
          </a:xfrm>
          <a:prstGeom prst="flowChartDecision">
            <a:avLst/>
          </a:prstGeom>
          <a:solidFill>
            <a:srgbClr val="00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38680" y="4191120"/>
            <a:ext cx="914400" cy="1447560"/>
          </a:xfrm>
          <a:prstGeom prst="flowChartManualInput">
            <a:avLst/>
          </a:prstGeom>
          <a:solidFill>
            <a:srgbClr val="ffcc00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71800" y="1676520"/>
            <a:ext cx="914400" cy="83808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43200" y="3048120"/>
            <a:ext cx="1219320" cy="914400"/>
          </a:xfrm>
          <a:prstGeom prst="flowChartInputOutput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0800000">
            <a:off x="2209320" y="4648320"/>
            <a:ext cx="2057400" cy="914400"/>
          </a:xfrm>
          <a:prstGeom prst="flowChartManualOperation">
            <a:avLst/>
          </a:prstGeom>
          <a:solidFill>
            <a:srgbClr val="ff33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057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95680" y="2057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3124080"/>
            <a:ext cx="2666880" cy="685800"/>
          </a:xfrm>
          <a:prstGeom prst="flowChartInputOutput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3504960" y="28195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28195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2720" y="2819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9132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05320" y="2819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09880" y="3505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267080" y="35053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505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4114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41148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360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38480" y="5029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600200" y="457200"/>
            <a:ext cx="701028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no Pro Display"/>
              </a:rPr>
              <a:t>Squares, Rectangle, and Rhombus</a:t>
            </a:r>
            <a:endParaRPr b="0" lang="en-US" sz="1800" spc="1" strike="noStrike">
              <a:ln w="12600">
                <a:solidFill>
                  <a:srgbClr val="33cccc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no Pro Display"/>
              <a:ea typeface="Arno Pro Display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uares, rectangles, parallelogram, and rhombuses  have four equal sides which make them have two sets of parallel 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quare and rectangle have 4 equal angles that equal 90 degrees in m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hombus is a special case of the parallel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791320"/>
            <a:ext cx="914400" cy="8380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5715000"/>
            <a:ext cx="1219320" cy="914400"/>
          </a:xfrm>
          <a:prstGeom prst="flowChartInputOutput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57600" y="5867280"/>
            <a:ext cx="2057400" cy="762120"/>
          </a:xfrm>
          <a:prstGeom prst="flowChartProcess">
            <a:avLst/>
          </a:prstGeom>
          <a:solidFill>
            <a:srgbClr val="0066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514600" y="175248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allelogram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5105520"/>
            <a:ext cx="2666880" cy="685800"/>
          </a:xfrm>
          <a:prstGeom prst="flowChartInputOutput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838080" y="762120"/>
            <a:ext cx="7696440" cy="22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sosceles Trapezoid and Trapez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14400" y="5181480"/>
            <a:ext cx="7696080" cy="228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24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sosceles Trapezoid and Trapez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475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sceles Trapezoid and the Trapezoid have one set of parallel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allel sides of a Trapezoid are called ba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trapezoid the parallel sides may not be congruent in length but they are still parall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0800000">
            <a:off x="2666520" y="5943600"/>
            <a:ext cx="2057400" cy="914400"/>
          </a:xfrm>
          <a:prstGeom prst="flowChartManualOperation">
            <a:avLst/>
          </a:pr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5410080"/>
            <a:ext cx="914400" cy="1447920"/>
          </a:xfrm>
          <a:prstGeom prst="flowChartManualInput">
            <a:avLst/>
          </a:prstGeom>
          <a:solidFill>
            <a:srgbClr val="000000"/>
          </a:solidFill>
          <a:ln w="9360">
            <a:solidFill>
              <a:srgbClr val="d0d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The kite has no parallel sides but it is still a quadrilate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The kite has two pairs of consecutive and congruent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590920" y="533520"/>
            <a:ext cx="428616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obo Std"/>
              </a:rPr>
              <a:t>The Odd 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obo Std"/>
              <a:ea typeface="Hobo Std"/>
            </a:endParaRPr>
          </a:p>
        </p:txBody>
      </p:sp>
      <p:sp>
        <p:nvSpPr>
          <p:cNvPr id="498" name=""/>
          <p:cNvSpPr/>
          <p:nvPr/>
        </p:nvSpPr>
        <p:spPr>
          <a:xfrm>
            <a:off x="4114800" y="3886200"/>
            <a:ext cx="762120" cy="11430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99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295280" y="2133720"/>
            <a:ext cx="563904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iddyup Std"/>
              </a:rPr>
              <a:t>The End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iddyup Std"/>
              <a:ea typeface="Giddyup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0:09:59Z</dcterms:created>
  <dc:creator>LAURIE GUERRE</dc:creator>
  <dc:description/>
  <dc:language>en-US</dc:language>
  <cp:lastModifiedBy>LAURIE GUERRE</cp:lastModifiedBy>
  <dcterms:modified xsi:type="dcterms:W3CDTF">2008-05-12T20:53:14Z</dcterms:modified>
  <cp:revision>2</cp:revision>
  <dc:subject/>
  <dc:title>Slide 1</dc:title>
</cp:coreProperties>
</file>